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080B-5548-4947-811B-C4A84865BC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F1C7-713B-4BDF-8613-0D5B3080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E26F-0D6B-48F0-B7FA-1E9AA78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3724-73E4-4DBE-B41C-B5954DEFB0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6F731-88DA-41F0-B61A-A05E82754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FF72B-E972-43ED-A8CC-6C358D90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58297-B7A3-426F-B79F-CEA3420C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A5B94-F1CE-42F4-87AC-48C515A9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E7434-32F9-416C-9B12-1C54A488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7CB72-5C19-43A9-B998-EA1A02F0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24009-429E-4C7D-880F-0A33AED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8DBF-808E-4235-8361-E30D9E6D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D76E1-7612-4AF0-82C4-923FFA64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F2141-EC93-4E9A-A8FB-A7455BCA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8CCD8-38A9-4F19-8A87-F976B926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9ACCA-59C3-4B7F-BE45-BB484D9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4829C-17E1-4E57-8C93-A1629A5F9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B762-1B90-47F1-8B8E-178D6347E0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E665-814B-4DFD-B6E7-7D9F4070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37EB-EF01-4183-9777-9CE4B47D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09EF-8D0D-429B-B414-6C4EAC2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287D-D2BB-4C30-A1C3-032F0FE8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40A5-D7D8-4375-A78A-E5CB79B4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F323-5284-4BEC-B8B1-C60F347F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074B-3498-44B8-B09F-CC192914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21F7-5757-40A1-B4CB-F55CE35C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246E-269E-47FD-86B2-5FC4D12D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A49D-DAE5-472E-A47F-C1AFFF6D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A2C2-4A85-464F-BDB3-FFF0DD6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8FC6-D9E0-4413-BFA0-7EA5DD1AC7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548F2-BC4E-45AF-A424-F74EFC3A7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24698-2FD7-40AE-A4F8-D5ECD915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439EE-479F-4216-A059-A2D0732A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AF86-24E7-4B82-A2FD-935104D7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37F03-3D9E-484B-8C04-5621914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3B4BF-3A6C-414D-8FEB-6B2FC11C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AE664-4A0D-47FC-84EF-F9B2429F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2F767-A9A0-41FB-BBEE-AF858644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9A56E-667A-498D-944A-263A6433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48612-0638-4641-8DF6-413E3D6B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B5DEA-F5E6-47B7-B560-F2A194B6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F0590-29B2-4ED3-A83F-9410DAD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742E5-7A99-4844-B72E-D0515E96B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B293-6B5B-47B9-A360-9F13C803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4F14-A1E3-4C9B-86D8-80DAD91E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29CB-8F9D-4CDD-91F4-4EE06521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0EE5-ACAE-4E3B-BD68-5640F63A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4958-672A-4C3A-8238-BF7C7A5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48CE3-68BA-4836-9616-EC6266365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2F67701-43C9-441A-A74F-1A9E89B1BD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ED36DF8-8055-4458-9594-E913FD577EF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A13F3-32A9-4671-91FE-1EA9560713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aganonline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530280" y="1365120"/>
            <a:ext cx="7864560" cy="1901880"/>
            <a:chOff x="530280" y="1365120"/>
            <a:chExt cx="7864560" cy="190188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30280" y="1365120"/>
              <a:ext cx="78645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30280" y="1365120"/>
              <a:ext cx="7864560" cy="19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33520" y="3228840"/>
            <a:ext cx="7854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il Trevi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mbered Heads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ms of four are establish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ach member is given a number of 1, 2, 3 or 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Questions are asked of the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Groups work together to answer the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cher calls out number ( 2) and each person with that number is asked to give and answ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m Pair So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do problems as a te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then do problems with a partn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Do problems on their 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ircle the s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cher calls on a students seeking which students have special knowledge of a subje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he sages spread out in the ro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surround the sage while the sage explains what they know while students listen, ask questions and take no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return to teams to share what they learned from the sage they received information fro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tn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lass is divided into teams of four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artners move to one side of roo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Half of each team is given an assignment to master and to be able to teach the other half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artners work to learn and can consult with other partners working on the same material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ms go back with each set of partners teaching the other set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artners quiz and tutor teammates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re Ideas?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ult you handout for more ideas in making cooperative learning grou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it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http://www.kaganonline.co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 more ideas tips and training opportun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operative learn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/>
          <p:nvPr/>
        </p:nvSpPr>
        <p:spPr>
          <a:xfrm>
            <a:off x="357516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1440" indent="-271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ing strategy involving small team of studen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sually students of varying ability are grouped togeth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mmates are responsible for all team members progres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2908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Use Cooperative learning?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 student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rease student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earning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ocial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hance learning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 positive relationshi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does cooperative learning help your classroom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positive interdepen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vidual and group account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rts success of gro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s communication skills to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group process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can you incorporate cooperative learning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igsa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Groups are establish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ach person is assigned unique material to lear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collaborate with other students with the same materi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Decisions are made on how to teach the subje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xperts” teach other grou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nk-Pair-Sh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think individually about a ques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share with partner and exchange though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he pairs share responses with other pairs or the entire grou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ee Step Inter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ach member of a team chooses another member to be a part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ndividuals interview partners by asking clarifying ques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artners reverse ro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mbers share their partner’s response to the te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und Robin – Brainstorm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lass is divided into small groups ( 4 to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One person is appointed as the recor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 question with many different answers is posed and time is given to think about answ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mbers of the team share responses in a round robin sty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ecorder  writes down respon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ee minute re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chers stop during  a lecture or review and give teams three minutes to review what has been sa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may ask clarifying questions or answer ques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5:26:54Z</dcterms:created>
  <dc:creator>GilsQuad</dc:creator>
  <dc:description/>
  <dc:language>en-US</dc:language>
  <cp:lastModifiedBy>GilsQuad</cp:lastModifiedBy>
  <dcterms:modified xsi:type="dcterms:W3CDTF">2010-06-02T23:58:39Z</dcterms:modified>
  <cp:revision>20</cp:revision>
  <dc:subject/>
  <dc:title>Kagan Strategies</dc:title>
</cp:coreProperties>
</file>